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470C-F692-4141-9BF1-9055A63B23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8DCE-F9E3-4D9F-A55A-7969571DCC6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8776-5433-4B43-81AA-3A3E88E1D5E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6369-3241-4B0A-8D24-B8A673A2AA0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7043-54F2-42F1-8A3B-C5CDD2474B6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BE80-80A5-408D-A9C4-DCBD4C0B79F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D6D1-5563-4043-A9DE-C7794A03B8D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F7F-E522-417F-AF9E-8485F2FCF4D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039C-C0C6-4614-8955-794E468E804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CB0F-D7C7-4259-8ACD-C4C4623C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7755-145D-444B-8C35-E1D3DA8C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C83F-B258-4D81-BB0A-7F60E54C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53C4-24A0-4A3B-8B13-FDE90FC2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E6DD-166C-4D78-8956-53CD0968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DE0D-1F31-4A17-931D-DF9FE4A6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9627-ADB0-4206-891A-74DD6D2F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5832-0770-45EC-9CFE-B68DAED4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642D-554E-4F02-BFB3-5DDC9F11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1A20-13EB-4E22-8734-ED694C0E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15DF-2C51-4DF9-8D06-FF1252A9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D325-C2F3-4F6D-85BF-46D7AE6E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AE848-7670-4ED5-B4C3-426F43FC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68A0B-DD7B-4E93-BE99-6C759073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9BD609-3BBF-421C-9844-A326732E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5CFE4-D736-4CF5-A7BF-CCB35172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2F383-3FD4-4DF2-B0FD-B870F625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0A0CC-93E2-4315-999B-EB4FC65F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8AAAC-3E91-4D45-B1A5-8A31D22C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9ACD8-58CF-4D99-9955-5204B228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9D4D3-E153-4DC3-B90B-934190F0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05FDB-0206-49D8-99A7-D802B718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4B01F-C98A-4C5D-8973-25D11FFC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86159-C7B6-4485-BF55-4773CA4F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14869-289D-4FE4-84AF-A541FC3F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BDC08-B81E-447E-9188-64CA50B6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23588-6222-4D3F-B5B1-690BC10B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7C79A-7F29-4292-B2FF-F4EE338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62659-5D83-4A5D-99D2-35514E3B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66CCD-B293-4B8F-BAA9-D50DA6ED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E7CD6-F13A-4949-BB71-31F493D9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64E2A-1765-4C1F-9271-BABA75C1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DCB60-9035-44B5-AA4B-93AEAC50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52743-9A8D-42BA-A43D-F51F4C1C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0DFC2-FB46-46E3-B204-DDDB7359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8525D-7D28-43F0-988E-3530D35D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4032-3BB6-452A-BEB8-EF28880697D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4E5E-6EF7-4B2F-A8B4-74994A7CA1C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3A33-8B4E-4B4B-A8E9-6698F231101A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630A-70E8-4038-BA78-FFFB9A920ED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2CD6-8359-4930-9BEB-356845E85C6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C8A9-7867-4F78-A3F8-91BBBAF4593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9C69-59C6-46B9-9E42-3F870AA2249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50DE-D278-40FB-A476-16C6D5A6B97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3FF8-6858-442A-A49F-716F7C368A1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5EE6-8AF0-455D-8365-72FF2B9E474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FB5E-54B2-4EE0-803F-157F196B0EA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5FF6-ECF0-45CA-8C35-BF493624CFB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893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4.0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8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가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178920" y="1731600"/>
                <a:ext cx="882216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58160" cy="6000840"/>
            <a:chOff x="142920" y="214200"/>
            <a:chExt cx="885816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58160" cy="4429440"/>
              <a:chOff x="142920" y="1785600"/>
              <a:chExt cx="885816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36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8688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되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 또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를 경험하는 경우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시간이 줄어들어 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08000" y="142920"/>
            <a:ext cx="8928000" cy="6278400"/>
            <a:chOff x="108000" y="142920"/>
            <a:chExt cx="8928000" cy="6278400"/>
          </a:xfrm>
        </p:grpSpPr>
        <p:sp>
          <p:nvSpPr>
            <p:cNvPr id="816" name="AutoShape 2"/>
            <p:cNvSpPr/>
            <p:nvPr/>
          </p:nvSpPr>
          <p:spPr>
            <a:xfrm>
              <a:off x="108000" y="714240"/>
              <a:ext cx="8892720" cy="5643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323640" y="765000"/>
              <a:ext cx="8712360" cy="56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종말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terminal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drop)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현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창의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3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정점 이후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이후에도 창의성 발휘 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도 감소로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0.33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학습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 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해 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라는 협의의 개념을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66960"/>
            <a:chOff x="108000" y="142920"/>
            <a:chExt cx="9288360" cy="6366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69264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6602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부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12640"/>
              <a:ext cx="8893080" cy="5097240"/>
              <a:chOff x="108000" y="1412640"/>
              <a:chExt cx="8893080" cy="509724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916640"/>
                <a:ext cx="8893080" cy="4593240"/>
                <a:chOff x="108000" y="1916640"/>
                <a:chExt cx="8893080" cy="459324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6640"/>
                  <a:ext cx="8819640" cy="4529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92528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가족이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 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126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등으로 기존 사회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 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12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367320"/>
            <a:chOff x="285840" y="0"/>
            <a:chExt cx="8858160" cy="636732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6081840"/>
              <a:chOff x="285840" y="285480"/>
              <a:chExt cx="8643960" cy="608184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321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196280"/>
                <a:ext cx="8504640" cy="51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 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-79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의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가역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동작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r>
                  <a:rPr b="0" lang="en-US" sz="1600" spc="-1" strike="noStrike">
                    <a:solidFill>
                      <a:srgbClr val="1d528d"/>
                    </a:solidFill>
                    <a:latin typeface="HY강B"/>
                  </a:rPr>
                  <a:t>(Rowe &amp; Kahn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830200"/>
            <a:chOff x="142920" y="428760"/>
            <a:chExt cx="8858160" cy="583020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87320"/>
              <a:chOff x="180720" y="1871640"/>
              <a:chExt cx="8820360" cy="438732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41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키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 치아 개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8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+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니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지고 탄력약화 → 관절염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의 의지대로 움직일 수 있는 근육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6980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381720"/>
            <a:chOff x="181080" y="142920"/>
            <a:chExt cx="8820000" cy="638172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620640"/>
              <a:ext cx="8820000" cy="5904000"/>
              <a:chOff x="181080" y="620640"/>
              <a:chExt cx="8820000" cy="590400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620640"/>
                <a:ext cx="8820000" cy="59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785160"/>
                <a:ext cx="8643960" cy="54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콩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로 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종류에 따라 감소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증가하는 경우가 있으나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화와 함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수용체 감수성 저하로 내분비 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적 관계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41:11Z</dcterms:modified>
  <cp:revision>2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